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1A2-C5F7-4961-86E9-A77D0684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32A-3B9E-4D1A-9605-920828C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727-DDD3-4B76-BA12-B9636810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FDE-EC85-44E9-9DB8-F32D72FC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95B-87A9-42C9-81F4-A4B14D08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5B3-278A-40FD-B057-E04E17DD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EE2-545A-48B4-90A9-C81A23B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226-0573-4264-B16F-0B66F1FA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5CA-9F6D-46BB-B006-3DD8298A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6CB-6540-483C-BC05-6164D67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A05-3DC6-4C75-857B-10942C8E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1A3-D6A9-48DA-A838-BC31072C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EB12-1B39-43DC-8788-9D80B734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ad a text explaining holiday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about the use of key subjunctive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evise formation of the con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describe your own holiday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0000" y="620640"/>
          <a:ext cx="7848720" cy="3403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Spa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Englis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Si pudiera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f I 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Si fuera posible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f it were pos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Cuando sea may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When I am ol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Quisi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 would li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Si tuviera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f I h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Ojala + subjuntivo for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( pudiera/ganara/tuviera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 w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11280" y="429264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Most of the time these sentences can be followed by conditional te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he conditional form is made by the full verb in infinitive followed by  ia and then the personal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8900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d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dependent on a condition being met for it to com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infinitive e.g.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appropriate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03280" y="3429000"/>
          <a:ext cx="5329080" cy="3111480"/>
        </p:xfrm>
        <a:graphic>
          <a:graphicData uri="http://schemas.openxmlformats.org/drawingml/2006/table">
            <a:tbl>
              <a:tblPr/>
              <a:tblGrid>
                <a:gridCol w="1512720"/>
                <a:gridCol w="3816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/ she / it / you (pol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u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/ you (plural, pol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877080" y="4005360"/>
            <a:ext cx="2050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a =      I woul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332000" y="765000"/>
          <a:ext cx="6264360" cy="2733840"/>
        </p:xfrm>
        <a:graphic>
          <a:graphicData uri="http://schemas.openxmlformats.org/drawingml/2006/table">
            <a:tbl>
              <a:tblPr/>
              <a:tblGrid>
                <a:gridCol w="1654200"/>
                <a:gridCol w="2273040"/>
                <a:gridCol w="233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c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do / m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be abl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n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e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w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e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332000" y="3543480"/>
          <a:ext cx="6264360" cy="3008160"/>
        </p:xfrm>
        <a:graphic>
          <a:graphicData uri="http://schemas.openxmlformats.org/drawingml/2006/table">
            <a:tbl>
              <a:tblPr/>
              <a:tblGrid>
                <a:gridCol w="1655640"/>
                <a:gridCol w="2232000"/>
                <a:gridCol w="23767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know (fa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go 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l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n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n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re will 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rá (only examp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50920" y="189000"/>
            <a:ext cx="244944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rregu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476280"/>
            <a:ext cx="79912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. ¿Preferirías alojarte en un camping o en un hotel?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2. Si tuvieras mucho dinero, ¿adónde irías de vacaciones? 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3. Si pudieras, ¿cómo viajarías de vacaciones, y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4. Si tuvieras la opción, preferirías de vacaciones con tus padres o con tus amigos? 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1:52:08Z</dcterms:created>
  <dc:creator>Owner1</dc:creator>
  <dc:description/>
  <dc:language>en-US</dc:language>
  <cp:lastModifiedBy>Owner1</cp:lastModifiedBy>
  <dcterms:modified xsi:type="dcterms:W3CDTF">2008-11-27T13:05:15Z</dcterms:modified>
  <cp:revision>3</cp:revision>
  <dc:subject/>
  <dc:title>Slide 1</dc:title>
</cp:coreProperties>
</file>